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97C6-1866-40EC-9975-8DAA3A3783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FEE1-2575-4837-913E-2A60EB3DA1E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AC1B-CE40-4163-99BE-465C8DFB0AA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A17A-B5F3-4969-A638-DC4B84F32B4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2A0B8-F8B8-4059-9D7F-C97F4CE6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FC2C8-2638-4A58-A416-90AAEEBD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66926-6EC6-4AF9-8BF3-362DE59E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7C9EE-DC92-4483-B95E-757F20B7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9FE55-B369-4969-B009-8F97D1D6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7B81E-38A1-4C29-AC74-054079A9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03694-D4BD-4A9E-873A-CC855677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6F1F6-6F1B-45F7-AC71-515968AE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25C01-33CC-4111-8A66-74961245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6DFB8-3213-4382-9B8A-A43B9D71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D59B9-328A-43FA-8D8E-0555CB96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E523F-AC0D-4650-9831-52B397B8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41DA-9C4D-4908-AD7C-64FC6D2A623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244B-78E7-4723-BD18-BA32434EF02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5803-0DD9-45B8-B6E4-5642B80074B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36D0-D03E-4CFA-AA88-6000D9E8E95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026D-601A-4AB2-9EDE-A43E423CE83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 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 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8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00880"/>
            <a:chOff x="0" y="0"/>
            <a:chExt cx="9358200" cy="650088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8480"/>
                <a:chOff x="356760" y="785520"/>
                <a:chExt cx="8644320" cy="304848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16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4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3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15600" cy="2530440"/>
              <a:chOff x="285480" y="3970440"/>
              <a:chExt cx="8715600" cy="253044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12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573040" cy="2503440"/>
                <a:chOff x="356760" y="3970440"/>
                <a:chExt cx="8573040" cy="250344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532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51480"/>
                  <a:ext cx="8573040" cy="19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세부 내용 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0-211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5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17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356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와 문제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6080"/>
              <a:chOff x="142920" y="-71280"/>
              <a:chExt cx="8858160" cy="328608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760"/>
                <a:chOff x="285480" y="500040"/>
                <a:chExt cx="8715600" cy="271476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에 머무는 시간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1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유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여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보다 개인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 및 여가활동 사용시간이 더 많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일 여가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+ 4.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에 소비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 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9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초 가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산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여가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6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5.6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4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0.4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이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금씩 증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이나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1:36:30Z</dcterms:modified>
  <cp:revision>3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